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ABA7-53E4-4670-A1AF-6FE10BC38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glyph group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497-FF9B-473B-ACE7-C5FF7305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544-A3D4-47A9-91C3-7F0A0BE5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6FC-7FD7-49F0-ABC0-C29C42CF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A24-23D1-47AB-8581-59086339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1E4-B578-4595-8D44-0D74E142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2C0-6340-4ACB-805A-68B81048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4B6-FE07-40DD-A0FC-D50B0026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331-37E8-4EAC-9382-5F6BDC23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5BB-E894-4F2D-AFD0-B6834283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737-2907-47DA-81F9-526C2ECB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670-E33E-4262-AFBB-48C29017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B01-2270-40AB-B9A1-3B81391B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FB69-472D-4D3C-B9BF-9A26818A499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Canoeing –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Up the Creek Without a Paddl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Learning Goals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haping questions for evaluation and instruction that focus on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ing how the questions in each section of the three part lesson might diff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efore/Part 1/Minds 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human number line from least to greatest quantity using the value on your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ebrief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ow did you decide where to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at comparisons did you make to decide the value of your card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uring/Part 2/Acti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divi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fraction between 3/2 and 1 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ain how you know it is between those fractions to your group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learning goal for this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fter/Part 3/Consolidati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 Pai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the consolidation question for this  three part lesson on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otmocrac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se five dots and select several consolidation questions you might use with your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Journal Think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dividual 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the consolidation questions you want to keep and use with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After/Part 3/Consolidaton: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riting Consolidation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st common questions – Gallery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Journal wri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rite an analogy using a movie sel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allel tasks are like __________(movie) because _______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tonnerj</cp:lastModifiedBy>
  <dcterms:modified xsi:type="dcterms:W3CDTF">2010-08-17T18:45:36Z</dcterms:modified>
  <cp:revision>152</cp:revision>
  <dc:subject/>
  <dc:title>Slide 1</dc:title>
</cp:coreProperties>
</file>